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8A3-0296-4E0E-9BE0-C215B6FA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63F-4D8C-43CB-845D-8CA50AC6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D26-98F8-4E64-9895-DA459D56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B2D-F1A4-46F8-B14C-59C28DFE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E232-4AFF-4CC8-9D54-604989CC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9E95-9445-4AC2-A9FC-07CBAA78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2A4-298F-4678-B926-26473C5D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851B-C3AB-43A8-9ADF-244A96FE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3CD-C6AC-418F-A233-C9AA7988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D65A-1AE5-4263-9428-D2F5CF0A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79D-C823-465B-BF6C-25A48D51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0B0-347D-415E-B63B-8CA32A94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C4DA-6951-4607-AEFE-2CC4BC574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upload.wikimedia.org/wikipedia/commons/1/16/Typha_latifolia_02_bgiu.jp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upload.wikimedia.org/wikipedia/commons/b/b8/Willow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f/fe/The_Lilly_Of_Life.JPG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7080" y="95400"/>
            <a:ext cx="4368600" cy="327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0" y="81000"/>
            <a:ext cx="4495680" cy="3271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4114800" cy="3282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648320" y="3505320"/>
            <a:ext cx="4368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4038480" cy="3333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24280" y="123840"/>
            <a:ext cx="4305600" cy="3228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724280" y="356220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4191120" cy="3327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233280"/>
            <a:ext cx="4419360" cy="3043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80880" y="3467160"/>
            <a:ext cx="3886200" cy="3390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648320" y="3505320"/>
            <a:ext cx="44956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77760"/>
            <a:ext cx="4343400" cy="327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724280" y="-76320"/>
            <a:ext cx="426744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File:Typha latifolia 02 bgiu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54348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File:Willow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3411360"/>
            <a:ext cx="44956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File:The Lilly Of Lif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Mute Swans (Cygnus olor)"/>
          <p:cNvPicPr/>
          <p:nvPr/>
        </p:nvPicPr>
        <p:blipFill>
          <a:blip r:embed="rId3"/>
          <a:stretch/>
        </p:blipFill>
        <p:spPr>
          <a:xfrm>
            <a:off x="76320" y="35053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876920" y="50760"/>
            <a:ext cx="3962160" cy="3301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File:Two american alligators.jpg"/>
          <p:cNvPicPr/>
          <p:nvPr/>
        </p:nvPicPr>
        <p:blipFill>
          <a:blip r:embed="rId5"/>
          <a:stretch/>
        </p:blipFill>
        <p:spPr>
          <a:xfrm>
            <a:off x="4724280" y="350532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22790</cp:lastModifiedBy>
  <dcterms:modified xsi:type="dcterms:W3CDTF">2008-12-19T00:10:14Z</dcterms:modified>
  <cp:revision>10</cp:revision>
  <dc:subject/>
  <dc:title>Slide 1</dc:title>
</cp:coreProperties>
</file>